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C1C-2BA7-42DB-AE1D-406325E3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9CB9-9486-45BC-9751-53644983B3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1B1A-B15A-4B76-A84B-85C37FAC3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D8BA-044D-4B1D-90C6-AA25AC311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51A-C942-4017-865A-8CC8F9D7C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22A-8B88-47AA-B6EF-056325F7F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797-97D0-4A17-B6A0-C890D34E4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00F9-B44F-4DAE-8896-3986EE9AE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205-2E69-4525-8D10-287A369C0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ECC8-9FB4-4A88-9B31-A3F8578B8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2E0-7F15-4306-9CE9-114CF2D4B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674-9BC4-482B-A710-1831C4F8F9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C313-3A23-43FA-BCA8-1B5CA4D7C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AB0D-7D4F-40A6-8156-ADB839E9D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510-40D2-43DE-8B2F-282DB8619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2804-853F-45D1-AF13-FD629C40C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E72-864F-49B5-A331-AFD66D11E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4045-2B73-402C-88E6-06AA051F3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33C-263D-41B8-8484-7EF28FE72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DAEB-4D72-4143-9D56-3E8C40E0C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6C6-DE0C-4035-9035-205F011509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2E89-327C-4E65-B7A7-681FB402B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4CA-2D37-48F1-9F6A-2C2E9EB2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2DE-2A97-4989-A069-F07C9EC3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1A9-B9FA-4208-A5D6-470DC1B6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162-C01E-438C-B3A6-FDB610FE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654-FD28-410B-B684-EF73E13C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0DD0-6CA4-4C77-8365-436B8E9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61DD-68EA-4184-9071-54C624D3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862-7480-48E3-8705-950BE5F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F9B-9FA6-4A0F-9A18-6A7F01F7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A9D5-A4FC-4302-8C66-35E70CF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3A47-9EF8-484C-801E-9931338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6E5-64D5-495A-BFAE-6ABF8907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541-F97D-4107-8120-B58265A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75CB-6737-4C87-BEB0-76434C9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19E0-8A48-45B5-9A2F-326C8A13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1CE-39FE-45BC-8759-F35069CC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6C1E-D076-482B-9CC8-7F592021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716-A709-40A7-89DA-DD76671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E42-F00F-4D21-BBFB-B9711D17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D6A-3D80-4CEF-AF32-C11160E3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81D-BDEA-4024-B9F7-D660894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E26-8CB1-4A7E-9733-4440D21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116-3E61-4374-AB89-7A0A60D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81F-E701-4608-8A7E-5181CFB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B1BE-CA2C-4B77-A533-53A32F0DC9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16E2-6D57-4655-930E-3C4D0BED84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Eleve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orth: The Second Great Awakening, Reform Movements, Transcendentalism, and Abol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 21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ew York Female Moral Reform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ro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ublic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orace Man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umanitari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erfectability and impr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apital punish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risons and asylu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Dorothea Di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form Mov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7" descr="261197-56"/>
          <p:cNvPicPr/>
          <p:nvPr/>
        </p:nvPicPr>
        <p:blipFill>
          <a:blip r:embed="rId1"/>
          <a:stretch/>
        </p:blipFill>
        <p:spPr>
          <a:xfrm>
            <a:off x="5410080" y="2057400"/>
            <a:ext cx="33814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omen’s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neca Falls Convention, 18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claration of Sentiment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ucretia Mott and Elizabeth Cady Stan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xamples of gender discri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l men and women created eq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form Mov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decofsentiments"/>
          <p:cNvPicPr/>
          <p:nvPr/>
        </p:nvPicPr>
        <p:blipFill>
          <a:blip r:embed="rId1"/>
          <a:stretch/>
        </p:blipFill>
        <p:spPr>
          <a:xfrm>
            <a:off x="5334120" y="914400"/>
            <a:ext cx="3630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power of the individ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action vs. Unitari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omanticism/n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uropean Philosop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mmanuel K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nner intu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ranscendent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flict with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nti-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bolition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rook Fa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lph Waldo Em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lf-Relianc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enry David Thore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n Resistance to Civil Governmen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onviolent civil disobedi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nfluence on Gandhi and Dr.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ranscendent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9" descr="1"/>
          <p:cNvPicPr/>
          <p:nvPr/>
        </p:nvPicPr>
        <p:blipFill>
          <a:blip r:embed="rId1"/>
          <a:stretch/>
        </p:blipFill>
        <p:spPr>
          <a:xfrm>
            <a:off x="6553080" y="457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enry-david-thoreau"/>
          <p:cNvPicPr/>
          <p:nvPr/>
        </p:nvPicPr>
        <p:blipFill>
          <a:blip r:embed="rId2"/>
          <a:stretch/>
        </p:blipFill>
        <p:spPr>
          <a:xfrm>
            <a:off x="5562720" y="3581280"/>
            <a:ext cx="24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ffered Alternatives to turmoil and unsettling social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other Ann L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elib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omen’s Eq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paration of the s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urniture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mmunitarian/Utopian Socie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300px-Shakers"/>
          <p:cNvPicPr/>
          <p:nvPr/>
        </p:nvPicPr>
        <p:blipFill>
          <a:blip r:embed="rId1"/>
          <a:stretch/>
        </p:blipFill>
        <p:spPr>
          <a:xfrm>
            <a:off x="4038480" y="2438280"/>
            <a:ext cx="46483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neida Community (N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hn No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mplex marriag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ntin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er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utual crit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mmunitarian/Utopian Socie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Oneida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utopians"/>
          <p:cNvPicPr/>
          <p:nvPr/>
        </p:nvPicPr>
        <p:blipFill>
          <a:blip r:embed="rId1"/>
          <a:stretch/>
        </p:blipFill>
        <p:spPr>
          <a:xfrm>
            <a:off x="1981080" y="457200"/>
            <a:ext cx="4986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Quaker ro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hn Woolman and Anthony Benez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radual Emanci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issouri Comprom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ritish Abolition efforts, esp. 183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benezet"/>
          <p:cNvPicPr/>
          <p:nvPr/>
        </p:nvPicPr>
        <p:blipFill>
          <a:blip r:embed="rId1"/>
          <a:stretch/>
        </p:blipFill>
        <p:spPr>
          <a:xfrm>
            <a:off x="5410080" y="1447920"/>
            <a:ext cx="30765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merican Colonization Society (A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rshall, Madison, Monroe, Cl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ib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0-13,000 African Americans migrated to Lib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liberia"/>
          <p:cNvPicPr/>
          <p:nvPr/>
        </p:nvPicPr>
        <p:blipFill>
          <a:blip r:embed="rId1"/>
          <a:stretch/>
        </p:blipFill>
        <p:spPr>
          <a:xfrm>
            <a:off x="5410080" y="2057400"/>
            <a:ext cx="2886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eld and Garr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The Lib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American Antislavery Society (183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onviol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oral sua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cal eff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64059_1"/>
          <p:cNvPicPr/>
          <p:nvPr/>
        </p:nvPicPr>
        <p:blipFill>
          <a:blip r:embed="rId1"/>
          <a:stretch/>
        </p:blipFill>
        <p:spPr>
          <a:xfrm>
            <a:off x="5791320" y="2590920"/>
            <a:ext cx="265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58120" y="30492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Key Term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596880" y="785880"/>
            <a:ext cx="7456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lib"/>
          <p:cNvPicPr/>
          <p:nvPr/>
        </p:nvPicPr>
        <p:blipFill>
          <a:blip r:embed="rId1"/>
          <a:stretch/>
        </p:blipFill>
        <p:spPr>
          <a:xfrm>
            <a:off x="2362320" y="228600"/>
            <a:ext cx="42796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outhern Abolition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ames G. Birney (AL), Liberty 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rimke Sisters, (S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iolent reprisals against abolition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arrison and Lovejo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irney"/>
          <p:cNvPicPr/>
          <p:nvPr/>
        </p:nvPicPr>
        <p:blipFill>
          <a:blip r:embed="rId1"/>
          <a:stretch/>
        </p:blipFill>
        <p:spPr>
          <a:xfrm>
            <a:off x="5105520" y="2133720"/>
            <a:ext cx="3619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ther AAS tac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ss-mai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Jackson Respon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etitions to Cong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JQA and Josiah Gidding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Gag Rule, 1836-18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Place of African Americans and Women in the Early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rederick Doug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ritique of William Lloyd Garr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ph_02"/>
          <p:cNvPicPr/>
          <p:nvPr/>
        </p:nvPicPr>
        <p:blipFill>
          <a:blip r:embed="rId1"/>
          <a:stretch/>
        </p:blipFill>
        <p:spPr>
          <a:xfrm>
            <a:off x="5715000" y="3048120"/>
            <a:ext cx="302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68840" y="15228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Questio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80880" y="116676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PMingLiU"/>
              </a:rPr>
              <a:t>1. What were some of the characteristics of American religious revivalism during the 1830s and 1840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PMingLiU"/>
              </a:rPr>
              <a:t>2. What were some of the other social reform movements (outside of American Christianity) that were popular during the 1830s and 1840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PMingLiU"/>
              </a:rPr>
              <a:t>3. What were some of the characteristics of transcendentalism during the 1830s and 1840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PMingLiU"/>
              </a:rPr>
              <a:t>4. What were some of the characteristics of communitarianism during the 1830s and 1840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PMingLiU"/>
              </a:rPr>
              <a:t>5. What were some of the characteristics of abolitionism during the 1830s and 1840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alking Point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ligious Revivals and Mormo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form M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umanitarian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anscendent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topian Socie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lavery and abol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10666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hristianity and Sobr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urned over District,” 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Democratization of</a:t>
            </a:r>
            <a:br>
              <a:rPr sz="24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American Christia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aptists and Method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ligious Reviv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4" descr="RevHuckst2"/>
          <p:cNvPicPr/>
          <p:nvPr/>
        </p:nvPicPr>
        <p:blipFill>
          <a:blip r:embed="rId1"/>
          <a:stretch/>
        </p:blipFill>
        <p:spPr>
          <a:xfrm>
            <a:off x="4267080" y="1371600"/>
            <a:ext cx="48769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0666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ac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o formal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imple backgrou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mp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motional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formal sty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ym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ligious Reviv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methodistcampmeeting"/>
          <p:cNvPicPr/>
          <p:nvPr/>
        </p:nvPicPr>
        <p:blipFill>
          <a:blip r:embed="rId1"/>
          <a:stretch/>
        </p:blipFill>
        <p:spPr>
          <a:xfrm>
            <a:off x="3048120" y="1523880"/>
            <a:ext cx="6095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228600" y="1219320"/>
            <a:ext cx="3048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ther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.G. Finney &amp; Presb.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ethodism in urban ar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frican Methodist Episcopal Church grows rapid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dern conn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ligious Reviv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allentp"/>
          <p:cNvPicPr/>
          <p:nvPr/>
        </p:nvPicPr>
        <p:blipFill>
          <a:blip r:embed="rId1"/>
          <a:stretch/>
        </p:blipFill>
        <p:spPr>
          <a:xfrm>
            <a:off x="3048120" y="2286000"/>
            <a:ext cx="2531880" cy="426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RichardAllen"/>
          <p:cNvPicPr/>
          <p:nvPr/>
        </p:nvPicPr>
        <p:blipFill>
          <a:blip r:embed="rId2"/>
          <a:stretch/>
        </p:blipFill>
        <p:spPr>
          <a:xfrm>
            <a:off x="5529240" y="1209600"/>
            <a:ext cx="36147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Joseph Sm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ligious belief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amily values yet polyga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ers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ligious Revival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bookofmormon"/>
          <p:cNvPicPr/>
          <p:nvPr/>
        </p:nvPicPr>
        <p:blipFill>
          <a:blip r:embed="rId1"/>
          <a:stretch/>
        </p:blipFill>
        <p:spPr>
          <a:xfrm>
            <a:off x="5084640" y="228600"/>
            <a:ext cx="405936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8600" y="1219320"/>
            <a:ext cx="5105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fluenced by Revi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oals of Spreading Northern, Middle Class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mperance Move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merican Temperance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ine La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form Mov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0701_012201"/>
          <p:cNvPicPr/>
          <p:nvPr/>
        </p:nvPicPr>
        <p:blipFill>
          <a:blip r:embed="rId1"/>
          <a:stretch/>
        </p:blipFill>
        <p:spPr>
          <a:xfrm>
            <a:off x="5486400" y="1371600"/>
            <a:ext cx="327348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220"/>
          <p:cNvPicPr/>
          <p:nvPr/>
        </p:nvPicPr>
        <p:blipFill>
          <a:blip r:embed="rId2"/>
          <a:stretch/>
        </p:blipFill>
        <p:spPr>
          <a:xfrm>
            <a:off x="685800" y="37339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J Franklin Williamson</cp:lastModifiedBy>
  <dcterms:modified xsi:type="dcterms:W3CDTF">2019-04-11T13:16:47Z</dcterms:modified>
  <cp:revision>79</cp:revision>
  <dc:subject/>
  <dc:title>The Early Republic</dc:title>
</cp:coreProperties>
</file>